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31E43-4F2F-420E-A171-11BDEC72D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BF996-C2B3-45B7-BDDC-3C719744B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6B885-977B-42E0-B0BF-F7CC18BAC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D735A-61E3-4E78-9C9F-EF76C4C47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0ED6C-47FC-4B1B-8456-7C3E5607F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10B0E-C48F-4A72-A077-1D6DACFB6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6668D-CAAF-4536-8C44-B0839A670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E253D-3F71-45C9-933E-546F51E0D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C5A80-3BFB-4134-852F-4CCC5BC1E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02228-F844-4B82-BE6A-A9FC40FC8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9F8BD-4DBD-4007-8135-569A63CD4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1AC92-1CF4-4C82-AD0B-DD7ACD16E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54A7-6E70-41A8-8FA1-691ED226C21B}"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EE57-1E68-45D1-8AE9-D1A4C4F2A57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06200" y="-165240"/>
            <a:ext cx="9213840" cy="7023240"/>
          </a:xfrm>
          <a:prstGeom prst="rect">
            <a:avLst/>
          </a:prstGeom>
          <a:ln w="0">
            <a:noFill/>
          </a:ln>
        </p:spPr>
      </p:pic>
      <p:sp>
        <p:nvSpPr>
          <p:cNvPr id="42" name="PlaceHolder 1"/>
          <p:cNvSpPr>
            <a:spLocks noGrp="1"/>
          </p:cNvSpPr>
          <p:nvPr>
            <p:ph type="title"/>
          </p:nvPr>
        </p:nvSpPr>
        <p:spPr>
          <a:xfrm>
            <a:off x="685800" y="-163440"/>
            <a:ext cx="77724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def3"/>
                </a:solidFill>
                <a:latin typeface="Arial"/>
              </a:rPr>
              <a:t>New way to measuring the wavefunction</a:t>
            </a:r>
            <a:endParaRPr b="0" lang="en-US" sz="3200" spc="-1" strike="noStrike">
              <a:solidFill>
                <a:srgbClr val="000000"/>
              </a:solidFill>
              <a:latin typeface="Arial"/>
            </a:endParaRPr>
          </a:p>
        </p:txBody>
      </p:sp>
      <p:sp>
        <p:nvSpPr>
          <p:cNvPr id="43" name="PlaceHolder 2"/>
          <p:cNvSpPr>
            <a:spLocks noGrp="1"/>
          </p:cNvSpPr>
          <p:nvPr>
            <p:ph type="subTitle"/>
          </p:nvPr>
        </p:nvSpPr>
        <p:spPr>
          <a:xfrm>
            <a:off x="34560" y="550440"/>
            <a:ext cx="3381480" cy="287964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a:rPr>
              <a:t>Introducation</a:t>
            </a:r>
            <a:endParaRPr b="0" lang="en-US" sz="20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As we all know, thanks to Heisenberg's uncertainty principle, measuring a quantum system without effectively destroying it before the wavefunction is fully known has seemed impossible. However,now, by taking a new approach to quantum measurement, Jeff Lundeen and his team from the National Research Council, Canada, have directly measured the wavefunction of identical single photons for the first time.</a:t>
            </a:r>
            <a:endParaRPr b="0" lang="en-US" sz="1400" spc="-1" strike="noStrike">
              <a:solidFill>
                <a:srgbClr val="000000"/>
              </a:solidFill>
              <a:latin typeface="Arial"/>
            </a:endParaRPr>
          </a:p>
        </p:txBody>
      </p:sp>
      <p:sp>
        <p:nvSpPr>
          <p:cNvPr id="44" name=""/>
          <p:cNvSpPr/>
          <p:nvPr/>
        </p:nvSpPr>
        <p:spPr>
          <a:xfrm>
            <a:off x="36360" y="3432240"/>
            <a:ext cx="3167280" cy="31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9999ff"/>
                </a:solidFill>
                <a:latin typeface="Arial"/>
              </a:rPr>
              <a:t>           </a:t>
            </a:r>
            <a:r>
              <a:rPr b="1" i="1" lang="zh-CN" sz="1800" spc="-1" strike="noStrike">
                <a:solidFill>
                  <a:srgbClr val="9999ff"/>
                </a:solidFill>
                <a:latin typeface="Arial"/>
              </a:rPr>
              <a:t>BASIC The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999ff"/>
                </a:solidFill>
                <a:latin typeface="Arial"/>
              </a:rPr>
              <a:t>The theory of weak measurement says that it is possible to "weakly" measure a quantum system and to gain some information about one property (say, position) without appreciably disturbing the complementary property (momentum) and therefore the future evolution of the system. Though the information obtained for each measurement is tiny, an average of multiple measurements gives an accurate estimation of the measurement of the property without distorting its final value.</a:t>
            </a:r>
            <a:endParaRPr b="0" lang="en-US" sz="1400" spc="-1" strike="noStrike">
              <a:solidFill>
                <a:srgbClr val="000000"/>
              </a:solidFill>
              <a:latin typeface="Arial"/>
            </a:endParaRPr>
          </a:p>
        </p:txBody>
      </p:sp>
      <p:sp>
        <p:nvSpPr>
          <p:cNvPr id="45" name=""/>
          <p:cNvSpPr/>
          <p:nvPr/>
        </p:nvSpPr>
        <p:spPr>
          <a:xfrm>
            <a:off x="3895560" y="552600"/>
            <a:ext cx="5214960" cy="380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Arial"/>
              </a:rPr>
              <a:t>       </a:t>
            </a:r>
            <a:r>
              <a:rPr b="0" lang="zh-CN" sz="2000" spc="-1" strike="noStrike">
                <a:solidFill>
                  <a:srgbClr val="99cc00"/>
                </a:solidFill>
                <a:latin typeface="Arial"/>
              </a:rPr>
              <a:t>Four basic steps of the experi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9cc00"/>
                </a:solidFill>
                <a:latin typeface="Arial"/>
              </a:rPr>
              <a:t>1The first is to generate a stream of single photons with identical wavefunc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9cc00"/>
                </a:solidFill>
                <a:latin typeface="Arial"/>
              </a:rPr>
              <a:t>2The next step is to set up the weak measurement of the transverse position of the photon by inducing a rotation in each photon's polarization by a very small amount – 10° – using a quartz cryst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9cc00"/>
                </a:solidFill>
                <a:latin typeface="Arial"/>
              </a:rPr>
              <a:t>3Let photons collimated each other and only photons travelling in a specific direction are detect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9cc00"/>
                </a:solidFill>
                <a:latin typeface="Arial"/>
              </a:rPr>
              <a:t>4, the weak measurement is carried out by measuring the two types of polarization that have actually occurred in the photons post-collimation. This is two-fold because the real part of the measurement is the actual amount of linear rotation that has occurred and the imaginary part is given by the circular rotation or the "ellipticity" of the polarization that has occurred. Together, these values give the weak measurement of the wavefunction. The</a:t>
            </a:r>
            <a:endParaRPr b="0" lang="en-US" sz="1400" spc="-1" strike="noStrike">
              <a:solidFill>
                <a:srgbClr val="000000"/>
              </a:solidFill>
              <a:latin typeface="Arial"/>
            </a:endParaRPr>
          </a:p>
        </p:txBody>
      </p:sp>
      <p:sp>
        <p:nvSpPr>
          <p:cNvPr id="46" name=""/>
          <p:cNvSpPr/>
          <p:nvPr/>
        </p:nvSpPr>
        <p:spPr>
          <a:xfrm>
            <a:off x="3895560" y="6326280"/>
            <a:ext cx="139716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5062680" y="6492960"/>
            <a:ext cx="404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0000"/>
                </a:solidFill>
                <a:latin typeface="Arial"/>
              </a:rPr>
              <a:t>Image is the set-up of the experiment</a:t>
            </a:r>
            <a:endParaRPr b="0" lang="en-US" sz="1800" spc="-1" strike="noStrike">
              <a:solidFill>
                <a:srgbClr val="000000"/>
              </a:solidFill>
              <a:latin typeface="Arial"/>
            </a:endParaRPr>
          </a:p>
        </p:txBody>
      </p:sp>
      <p:sp>
        <p:nvSpPr>
          <p:cNvPr id="48" name=""/>
          <p:cNvSpPr/>
          <p:nvPr/>
        </p:nvSpPr>
        <p:spPr>
          <a:xfrm>
            <a:off x="3897360" y="4362480"/>
            <a:ext cx="4997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Arial"/>
              </a:rPr>
              <a:t>              </a:t>
            </a:r>
            <a:r>
              <a:rPr b="1" i="1" lang="zh-CN" sz="1800" spc="-1" strike="noStrike">
                <a:solidFill>
                  <a:srgbClr val="ff6600"/>
                </a:solidFill>
                <a:latin typeface="Arial"/>
              </a:rPr>
              <a:t>Does the new way bet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Arial"/>
              </a:rPr>
              <a:t>"The simple benefit of our research is that we now have an operational textbook definition of a wavefunction...something that is essential." said Lund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123</dc:creator>
  <dc:description/>
  <dc:language>en-US</dc:language>
  <cp:lastModifiedBy>bianxiaoxiang</cp:lastModifiedBy>
  <dcterms:modified xsi:type="dcterms:W3CDTF">2013-12-09T04:51:46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249</vt:lpwstr>
  </property>
</Properties>
</file>